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B3AD-D155-4D94-B5D8-D46B4B292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4F2B-0BCA-437D-B752-A41301CB992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789A-A4D8-4C97-A778-BB268BD9A32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F7A1-9E31-4A5F-8278-07CDDF3DDC5E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5B7C-C800-4B42-8FF0-F77BC0402CB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67BD-5D4F-46E2-86BC-369405A41E8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6B3F-782F-427C-B5EB-19339F05A1A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EF57-795E-4263-8451-56604147F29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F75F-7072-4614-87B9-F23B7F2D81C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6C50-7E7F-4E90-8668-794150917C1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2788-3C19-4F28-A8AC-F4081B4AD70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7A0F-74F9-4A77-849B-C7A92DAFC13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CD0-7AC0-46FD-B7C6-58AF2AA7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767-6A7A-41F3-93AF-025087A0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D74-288F-4AE7-96EB-EA6379C0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52A-CB2E-4DF1-B7CA-CF1497D2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4F2-408A-4CCB-A63D-49D2D227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272-2681-42BB-9A72-CA8A3174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863-2ED0-4D78-AB9D-78520D63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0DD-4A20-4414-8EFC-0897194D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7D0-9ABD-400D-9830-7F8ED4CB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0CF-9770-4206-94E6-EE83E31B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634-6BA4-4321-967C-29F155A0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823-5388-4F86-B4F1-BFF426ED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C27C-F1B4-4A82-940E-E43503A1052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78D8-4E80-420F-851B-97A9CE4D03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77B6-430A-4F01-B989-1B25AE538D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C515-4901-46F9-A8C0-50766B4859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„reprint author“ – použitelné pouze pro některé ob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9958-0842-447D-8F5F-56D2FA8804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Další změ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C2B0-1F0E-4653-9243-E723DFAE3F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2536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Časová osa M1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698472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8"/>
          <p:cNvSpPr/>
          <p:nvPr/>
        </p:nvSpPr>
        <p:spPr>
          <a:xfrm>
            <a:off x="611280" y="461952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aždoroční hodnocení (M1+M2, národní úroveň, gesce RV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délník 9"/>
          <p:cNvSpPr/>
          <p:nvPr/>
        </p:nvSpPr>
        <p:spPr>
          <a:xfrm>
            <a:off x="4859280" y="458136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hrn M1+M2 za předchozí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3+M4+M5 (úroveň poskytovate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915A-E7DA-4864-BD97-1EB9633E07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79640" y="1483920"/>
            <a:ext cx="4679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3 + M4 + M5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dokončí v roce 2019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ŠMT později - podoba modulů M3, M4 a M5 má být schválena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konkrétní podoby M1+M2 bude zahájeno po zformulování doporučení plynoucích z Hodnocení 1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 a 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vydefinování časového okna pro aplikované výsledky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2 v bibliometrii použije více indikátorů (zejména analýzy na úroveň citačního dopadu článků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ovéPole 6"/>
          <p:cNvSpPr/>
          <p:nvPr/>
        </p:nvSpPr>
        <p:spPr>
          <a:xfrm>
            <a:off x="395280" y="260280"/>
            <a:ext cx="8064360" cy="10080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ompletní hodnocení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65" name="Obdélník 10"/>
            <p:cNvSpPr/>
            <p:nvPr/>
          </p:nvSpPr>
          <p:spPr>
            <a:xfrm>
              <a:off x="731160" y="2535120"/>
              <a:ext cx="281232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ové pole 2"/>
            <p:cNvSpPr/>
            <p:nvPr/>
          </p:nvSpPr>
          <p:spPr>
            <a:xfrm>
              <a:off x="1007640" y="3149640"/>
              <a:ext cx="38268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ové pole 2"/>
            <p:cNvSpPr/>
            <p:nvPr/>
          </p:nvSpPr>
          <p:spPr>
            <a:xfrm>
              <a:off x="2702160" y="307476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ové pole 2"/>
            <p:cNvSpPr/>
            <p:nvPr/>
          </p:nvSpPr>
          <p:spPr>
            <a:xfrm>
              <a:off x="216180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ové pole 2"/>
            <p:cNvSpPr/>
            <p:nvPr/>
          </p:nvSpPr>
          <p:spPr>
            <a:xfrm>
              <a:off x="159696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délník 15" descr=""/>
            <p:cNvPicPr/>
            <p:nvPr/>
          </p:nvPicPr>
          <p:blipFill>
            <a:blip r:embed="rId1"/>
            <a:stretch/>
          </p:blipFill>
          <p:spPr>
            <a:xfrm>
              <a:off x="603360" y="2590560"/>
              <a:ext cx="2810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Obdélník 16" descr=""/>
            <p:cNvPicPr/>
            <p:nvPr/>
          </p:nvPicPr>
          <p:blipFill>
            <a:blip r:embed="rId2"/>
            <a:stretch/>
          </p:blipFill>
          <p:spPr>
            <a:xfrm>
              <a:off x="2440080" y="3663720"/>
              <a:ext cx="8802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Obdélník 17" descr=""/>
            <p:cNvPicPr/>
            <p:nvPr/>
          </p:nvPicPr>
          <p:blipFill>
            <a:blip r:embed="rId3"/>
            <a:stretch/>
          </p:blipFill>
          <p:spPr>
            <a:xfrm>
              <a:off x="777960" y="3663720"/>
              <a:ext cx="1632600" cy="5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Přímá spojnice 18"/>
            <p:cNvSpPr/>
            <p:nvPr/>
          </p:nvSpPr>
          <p:spPr>
            <a:xfrm>
              <a:off x="119880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římá spojnice 19"/>
            <p:cNvSpPr/>
            <p:nvPr/>
          </p:nvSpPr>
          <p:spPr>
            <a:xfrm>
              <a:off x="178812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římá spojnice 20"/>
            <p:cNvSpPr/>
            <p:nvPr/>
          </p:nvSpPr>
          <p:spPr>
            <a:xfrm>
              <a:off x="2351520" y="3354120"/>
              <a:ext cx="0" cy="16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Přímá spojnice 21"/>
            <p:cNvSpPr/>
            <p:nvPr/>
          </p:nvSpPr>
          <p:spPr>
            <a:xfrm>
              <a:off x="2895120" y="327348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římá spojnice 22"/>
            <p:cNvSpPr/>
            <p:nvPr/>
          </p:nvSpPr>
          <p:spPr>
            <a:xfrm>
              <a:off x="778320" y="3441600"/>
              <a:ext cx="2516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ál 23"/>
            <p:cNvSpPr/>
            <p:nvPr/>
          </p:nvSpPr>
          <p:spPr>
            <a:xfrm>
              <a:off x="2304360" y="3011400"/>
              <a:ext cx="1209960" cy="2018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3F05-57A8-43F6-9C37-1CAC967B78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67120" y="1988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ovéPole 6"/>
          <p:cNvSpPr/>
          <p:nvPr/>
        </p:nvSpPr>
        <p:spPr>
          <a:xfrm>
            <a:off x="395280" y="333360"/>
            <a:ext cx="8064360" cy="9471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odnocení H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84" name="Obdélník 25"/>
            <p:cNvSpPr/>
            <p:nvPr/>
          </p:nvSpPr>
          <p:spPr>
            <a:xfrm>
              <a:off x="453960" y="2938680"/>
              <a:ext cx="295740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ové pole 2"/>
            <p:cNvSpPr/>
            <p:nvPr/>
          </p:nvSpPr>
          <p:spPr>
            <a:xfrm>
              <a:off x="811800" y="3192120"/>
              <a:ext cx="3920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ové pole 2"/>
            <p:cNvSpPr/>
            <p:nvPr/>
          </p:nvSpPr>
          <p:spPr>
            <a:xfrm>
              <a:off x="2549160" y="311724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ové pole 2"/>
            <p:cNvSpPr/>
            <p:nvPr/>
          </p:nvSpPr>
          <p:spPr>
            <a:xfrm>
              <a:off x="199512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ové pole 2"/>
            <p:cNvSpPr/>
            <p:nvPr/>
          </p:nvSpPr>
          <p:spPr>
            <a:xfrm>
              <a:off x="141588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Obdélník 30" descr=""/>
            <p:cNvPicPr/>
            <p:nvPr/>
          </p:nvPicPr>
          <p:blipFill>
            <a:blip r:embed="rId1"/>
            <a:stretch/>
          </p:blipFill>
          <p:spPr>
            <a:xfrm>
              <a:off x="395280" y="2637000"/>
              <a:ext cx="2886840" cy="79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Obdélník 31" descr=""/>
            <p:cNvPicPr/>
            <p:nvPr/>
          </p:nvPicPr>
          <p:blipFill>
            <a:blip r:embed="rId2"/>
            <a:stretch/>
          </p:blipFill>
          <p:spPr>
            <a:xfrm>
              <a:off x="2278080" y="3706200"/>
              <a:ext cx="9025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Obdélník 32" descr=""/>
            <p:cNvPicPr/>
            <p:nvPr/>
          </p:nvPicPr>
          <p:blipFill>
            <a:blip r:embed="rId3"/>
            <a:stretch/>
          </p:blipFill>
          <p:spPr>
            <a:xfrm>
              <a:off x="574560" y="3700080"/>
              <a:ext cx="167940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Přímá spojnice 33"/>
            <p:cNvSpPr/>
            <p:nvPr/>
          </p:nvSpPr>
          <p:spPr>
            <a:xfrm>
              <a:off x="100800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římá spojnice 34"/>
            <p:cNvSpPr/>
            <p:nvPr/>
          </p:nvSpPr>
          <p:spPr>
            <a:xfrm>
              <a:off x="16120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římá spojnice 35"/>
            <p:cNvSpPr/>
            <p:nvPr/>
          </p:nvSpPr>
          <p:spPr>
            <a:xfrm>
              <a:off x="2189520" y="3396240"/>
              <a:ext cx="0" cy="16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Přímá spojnice 36"/>
            <p:cNvSpPr/>
            <p:nvPr/>
          </p:nvSpPr>
          <p:spPr>
            <a:xfrm>
              <a:off x="2746800" y="3315600"/>
              <a:ext cx="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římá spojnice 37"/>
            <p:cNvSpPr/>
            <p:nvPr/>
          </p:nvSpPr>
          <p:spPr>
            <a:xfrm>
              <a:off x="577080" y="3483360"/>
              <a:ext cx="2579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ál 38"/>
            <p:cNvSpPr/>
            <p:nvPr/>
          </p:nvSpPr>
          <p:spPr>
            <a:xfrm>
              <a:off x="528480" y="2923200"/>
              <a:ext cx="1858320" cy="2020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0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263E-925A-45BF-ADFE-E07053B7A9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9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18: hlavní nezměněné parametry pro bibliomet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5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1223-6546-4B74-A0C1-6C8B1CEC3E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Hlavní úpravy bibliometrie pro H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A485-E3A3-4827-8E72-C511F6919D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3640" y="213336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přenos do dalšího cyklu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0208-8359-46E7-AC6E-A38EC5CEDB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18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bdélník 51"/>
            <p:cNvSpPr/>
            <p:nvPr/>
          </p:nvSpPr>
          <p:spPr>
            <a:xfrm>
              <a:off x="349200" y="2017440"/>
              <a:ext cx="1858680" cy="3581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bdélník 52"/>
            <p:cNvSpPr/>
            <p:nvPr/>
          </p:nvSpPr>
          <p:spPr>
            <a:xfrm>
              <a:off x="2208240" y="2009520"/>
              <a:ext cx="3049560" cy="35816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bdélník 53"/>
            <p:cNvSpPr/>
            <p:nvPr/>
          </p:nvSpPr>
          <p:spPr>
            <a:xfrm>
              <a:off x="5104080" y="2017440"/>
              <a:ext cx="3195720" cy="358164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ové pole 5"/>
            <p:cNvSpPr/>
            <p:nvPr/>
          </p:nvSpPr>
          <p:spPr>
            <a:xfrm>
              <a:off x="374760" y="2082600"/>
              <a:ext cx="1787400" cy="449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ové pole 5"/>
            <p:cNvSpPr/>
            <p:nvPr/>
          </p:nvSpPr>
          <p:spPr>
            <a:xfrm>
              <a:off x="2778120" y="2079360"/>
              <a:ext cx="1814400" cy="45216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ové pole 5"/>
            <p:cNvSpPr/>
            <p:nvPr/>
          </p:nvSpPr>
          <p:spPr>
            <a:xfrm>
              <a:off x="5965920" y="2079360"/>
              <a:ext cx="1574640" cy="415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26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ové pole 12"/>
              <p:cNvSpPr/>
              <p:nvPr/>
            </p:nvSpPr>
            <p:spPr>
              <a:xfrm>
                <a:off x="745920" y="4563000"/>
                <a:ext cx="757080" cy="47160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ové pole 12"/>
              <p:cNvSpPr/>
              <p:nvPr/>
            </p:nvSpPr>
            <p:spPr>
              <a:xfrm>
                <a:off x="645840" y="3664440"/>
                <a:ext cx="969840" cy="40788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Obdélník 58"/>
            <p:cNvSpPr/>
            <p:nvPr/>
          </p:nvSpPr>
          <p:spPr>
            <a:xfrm>
              <a:off x="3421080" y="3649680"/>
              <a:ext cx="1469880" cy="194328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31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ové pole 3"/>
              <p:cNvSpPr/>
              <p:nvPr/>
            </p:nvSpPr>
            <p:spPr>
              <a:xfrm>
                <a:off x="2393280" y="4619880"/>
                <a:ext cx="756720" cy="47016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ové pole 12"/>
              <p:cNvSpPr/>
              <p:nvPr/>
            </p:nvSpPr>
            <p:spPr>
              <a:xfrm>
                <a:off x="2293200" y="3654000"/>
                <a:ext cx="96948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35" name="Obdélník 80"/>
              <p:cNvSpPr/>
              <p:nvPr/>
            </p:nvSpPr>
            <p:spPr>
              <a:xfrm>
                <a:off x="5271840" y="3655080"/>
                <a:ext cx="974160" cy="194220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ové pole 3"/>
              <p:cNvSpPr/>
              <p:nvPr/>
            </p:nvSpPr>
            <p:spPr>
              <a:xfrm>
                <a:off x="5376240" y="4615920"/>
                <a:ext cx="756720" cy="47160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ové pole 12"/>
              <p:cNvSpPr/>
              <p:nvPr/>
            </p:nvSpPr>
            <p:spPr>
              <a:xfrm>
                <a:off x="5276520" y="3650400"/>
                <a:ext cx="969480" cy="40788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ové pole 3"/>
            <p:cNvSpPr/>
            <p:nvPr/>
          </p:nvSpPr>
          <p:spPr>
            <a:xfrm>
              <a:off x="3576600" y="4624560"/>
              <a:ext cx="1157040" cy="46980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Pravoúhlá spojnice 63"/>
            <p:cNvCxnSpPr>
              <a:stCxn id="128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2" name="Textové pole 41"/>
            <p:cNvSpPr/>
            <p:nvPr/>
          </p:nvSpPr>
          <p:spPr>
            <a:xfrm>
              <a:off x="3456000" y="5658120"/>
              <a:ext cx="1434960" cy="6811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bdélník 66"/>
            <p:cNvSpPr/>
            <p:nvPr/>
          </p:nvSpPr>
          <p:spPr>
            <a:xfrm>
              <a:off x="6380280" y="3649680"/>
              <a:ext cx="183672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7" name="Textové pole 3"/>
            <p:cNvSpPr/>
            <p:nvPr/>
          </p:nvSpPr>
          <p:spPr>
            <a:xfrm>
              <a:off x="6553440" y="4619520"/>
              <a:ext cx="149220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ové pole 41"/>
            <p:cNvSpPr/>
            <p:nvPr/>
          </p:nvSpPr>
          <p:spPr>
            <a:xfrm>
              <a:off x="6521760" y="5658120"/>
              <a:ext cx="1695240" cy="79056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bdélník 76"/>
            <p:cNvSpPr/>
            <p:nvPr/>
          </p:nvSpPr>
          <p:spPr>
            <a:xfrm>
              <a:off x="349200" y="2017440"/>
              <a:ext cx="7950240" cy="358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ové pole 41"/>
            <p:cNvSpPr/>
            <p:nvPr/>
          </p:nvSpPr>
          <p:spPr>
            <a:xfrm>
              <a:off x="633240" y="5658120"/>
              <a:ext cx="977760" cy="4712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ové pole 41"/>
            <p:cNvSpPr/>
            <p:nvPr/>
          </p:nvSpPr>
          <p:spPr>
            <a:xfrm>
              <a:off x="2284560" y="5658120"/>
              <a:ext cx="977760" cy="4712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ové pole 41"/>
            <p:cNvSpPr/>
            <p:nvPr/>
          </p:nvSpPr>
          <p:spPr>
            <a:xfrm>
              <a:off x="5278680" y="565956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5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F6DA-435B-4215-BF55-C63FD02DED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Oborové převodníky - aktualiz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Nekorjak Michal</cp:lastModifiedBy>
  <cp:lastPrinted>2018-11-19T13:34:56Z</cp:lastPrinted>
  <dcterms:modified xsi:type="dcterms:W3CDTF">2019-01-22T10:24:14Z</dcterms:modified>
  <cp:revision>167</cp:revision>
  <dc:subject/>
  <dc:title>Prezentace aplikace PowerPoint</dc:title>
</cp:coreProperties>
</file>